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6F7F-45EB-45E9-8768-AF5B03FB9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classify rocks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ineral composition, color, and te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rocks classifi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classify rocks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ineral composition, color, and te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rocks classifi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classify rocks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ineral composition, color, and te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rocks classifi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gneous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of magma or l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Sedimentary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 particles and remains of plants and animals are press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metamorphic rocks formed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rock is changed by heat, pressure, or chemical reaction deep under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gneous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of magma or l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Sedimentary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 particles and remains of plants and animals are press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metamorphic rocks formed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rock is changed by heat, pressure, or chemical reaction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gneous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of magma or l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Sedimentary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 particles and remains of plants and animals are press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metamorphic rocks formed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rock is changed by heat, pressure, or chemical reaction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gneous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of magma or l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Sedimentary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 particles and remains of plants and animals are press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metamorphic rocks formed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rock is changed by heat, pressure, or chemical reaction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gneous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of magma or l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Sedimentary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 particles and remains of plants and animals are press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metamorphic rocks formed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rock is changed by heat, pressure, or chemical reaction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gneous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of magma or l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Sedimentary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 particles and remains of plants and animals are press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metamorphic rocks formed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rock is changed by heat, pressure, or chemical reaction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gneous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of magma or l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Sedimentary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 particles and remains of plants and animals are press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metamorphic rocks formed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rock is changed by heat, pressure, or chemical reaction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 simple strategy has good results when reading informational 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rategies are effective but are too difficult to use or general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A33F-AAA8-4B21-9992-A9C67C2BE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8F01-0900-46B8-A6EC-D2BC26B1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B4DE-707F-4B45-868C-2C99CE4F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1D2-1F76-4324-8584-2313B780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DAD8-FB03-4038-91ED-DF65E03E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82F7-6B52-444F-9FBA-69D8BD87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FAF2-0D27-4B35-A07F-FFB8AF12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786-1804-43CB-9097-EA6A773F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4B90-18C7-497B-BA2D-D060549F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419-C4DC-4DFE-A0C1-C271AAE6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1CD-9877-42C5-A4EC-EE558E1E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F82-1259-489D-B305-9D6C9A15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A4F-A129-439D-807E-08DA9BF9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E920-A376-42B9-9D88-3A3B64D6D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BA7B-A69C-48C7-9F0C-CD616AFA1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-point used in a Middle School demonstration lesson (science) presented by Anita L. Archer, PHD.  A number of expository reading strategies were demonstrated including previewing and self-questio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DE7F-F924-4F57-92F6-1ED1E4F5D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ing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941C-9761-4453-8C2D-7B7FC3B9E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ing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you classify rock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are rocks classified?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B84C-6D41-4A44-9128-ECB5AF9A4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ing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you classify rock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are rocks classified?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ks are classified by mineral composition, color, and textur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5EAB-17DB-4A57-8FAC-FD1F3E54D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Rocks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1981080"/>
          <a:ext cx="7772400" cy="3619800"/>
        </p:xfrm>
        <a:graphic>
          <a:graphicData uri="http://schemas.openxmlformats.org/drawingml/2006/table">
            <a:tbl>
              <a:tblPr/>
              <a:tblGrid>
                <a:gridCol w="2133720"/>
                <a:gridCol w="5638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eous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morphic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130F-B0B1-4BDF-BC39-7D5EAF63A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Rocks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3619800"/>
        </p:xfrm>
        <a:graphic>
          <a:graphicData uri="http://schemas.openxmlformats.org/drawingml/2006/table">
            <a:tbl>
              <a:tblPr/>
              <a:tblGrid>
                <a:gridCol w="3200400"/>
                <a:gridCol w="4572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eous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igneous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sedimentary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morphic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metamorphic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9188-7872-435E-A643-1D598791F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Rocks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1981080"/>
          <a:ext cx="7772400" cy="3619800"/>
        </p:xfrm>
        <a:graphic>
          <a:graphicData uri="http://schemas.openxmlformats.org/drawingml/2006/table">
            <a:tbl>
              <a:tblPr/>
              <a:tblGrid>
                <a:gridCol w="2133720"/>
                <a:gridCol w="5638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eous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eous rocks are formed when magma or lava cool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morphic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723E-D817-4DFE-B8D1-089362F5D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gneous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23FC-0B25-44C1-8F1C-FB807F4BF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a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basalt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6B92-4F13-4C43-8C2D-85ABEAED8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welded-tuff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DF5E-57D2-4CED-8028-D76428A4A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m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29" descr="pumice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30A7-D04F-49BE-ACFB-D158B1CDA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Rocks-1"/>
          <p:cNvPicPr/>
          <p:nvPr/>
        </p:nvPicPr>
        <p:blipFill>
          <a:blip r:embed="rId1"/>
          <a:stretch/>
        </p:blipFill>
        <p:spPr>
          <a:xfrm>
            <a:off x="906480" y="609480"/>
            <a:ext cx="73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364C-622D-4CCD-B397-FB27DAB9A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n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granite-coarse-grained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1A05-DFC4-4D15-90BE-1DC849EF9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idi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obsidian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9770-AD7A-4D4E-A972-B1931FD94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Rocks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3619800"/>
        </p:xfrm>
        <a:graphic>
          <a:graphicData uri="http://schemas.openxmlformats.org/drawingml/2006/table">
            <a:tbl>
              <a:tblPr/>
              <a:tblGrid>
                <a:gridCol w="3200400"/>
                <a:gridCol w="4572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eous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igneous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sedimentary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morphic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metamorphic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2D1A-72D3-4A20-88B8-91F483F8F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Rocks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1981080"/>
          <a:ext cx="7772400" cy="4816440"/>
        </p:xfrm>
        <a:graphic>
          <a:graphicData uri="http://schemas.openxmlformats.org/drawingml/2006/table">
            <a:tbl>
              <a:tblPr/>
              <a:tblGrid>
                <a:gridCol w="3200400"/>
                <a:gridCol w="4572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eous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igneous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sedimentary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rocks are formed when rock particles and remains of plants and animals are pressed togethe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morphic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metamorphic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257A-4E5B-4616-B913-DF97532B8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EFCA-9934-49EB-A76E-8DD6F6F6D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oal-anthracite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9183600" y="608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E74E-1D75-447D-B0BD-9F0FFC7BA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lom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conglomerate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DD63-7EE4-4D3D-9AB1-2D035D5DF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28" descr="limestone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DE21-7257-47CB-8D94-D30A1EBD7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shale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1BB2-B7A6-4DA0-8031-2C41CB472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d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sandstone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D01C-8E3F-449F-B861-6114F1E0B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rocks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1F62-A5AE-4B62-900B-ADDC0BDC4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Rocks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1981080"/>
          <a:ext cx="7772400" cy="3619800"/>
        </p:xfrm>
        <a:graphic>
          <a:graphicData uri="http://schemas.openxmlformats.org/drawingml/2006/table">
            <a:tbl>
              <a:tblPr/>
              <a:tblGrid>
                <a:gridCol w="3200400"/>
                <a:gridCol w="4572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eous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igneous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sedimentary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morphic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metamorphic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DFFA-7C86-4446-808A-655CB9C7D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Rocks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5800" y="1981080"/>
          <a:ext cx="7772400" cy="4816440"/>
        </p:xfrm>
        <a:graphic>
          <a:graphicData uri="http://schemas.openxmlformats.org/drawingml/2006/table">
            <a:tbl>
              <a:tblPr/>
              <a:tblGrid>
                <a:gridCol w="3200400"/>
                <a:gridCol w="4572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eous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igneous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sedimentary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morphic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metamorphic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morphic rocks are formed when existing rock is changed by heat, pressure, or chemical reaction deep in the eart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BBF0-726D-45FB-9AF9-892E6F5CC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B606-CC31-4DBB-8DAF-0E2796048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phibo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mphibolite-2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D7E7-C6D7-4933-BE60-6249204D5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nei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gneiss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A706-D9CA-43AC-BF14-CE9D09D54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z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quartzite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5CC5-CBEB-4236-A0F4-775D06B00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slate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E7CB-E93F-4C88-955D-6931F3528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muscovite-schist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00E1-EC28-46B3-B027-C8F5F917B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49CC-6FF5-4585-A136-867DCE6A5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85800" y="1981080"/>
          <a:ext cx="7772400" cy="3619800"/>
        </p:xfrm>
        <a:graphic>
          <a:graphicData uri="http://schemas.openxmlformats.org/drawingml/2006/table">
            <a:tbl>
              <a:tblPr/>
              <a:tblGrid>
                <a:gridCol w="2133720"/>
                <a:gridCol w="5638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 sh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 patte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D669-2AA0-455E-8203-F0A48F0E1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US03CHA0022-FB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222B-9D8F-49DD-8B34-ADEFDA5B8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sedona-02-500"/>
          <p:cNvPicPr/>
          <p:nvPr/>
        </p:nvPicPr>
        <p:blipFill>
          <a:blip r:embed="rId1"/>
          <a:stretch/>
        </p:blipFill>
        <p:spPr>
          <a:xfrm>
            <a:off x="2744640" y="609480"/>
            <a:ext cx="3654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35E1-BC55-48F3-AE8B-3EE8668EC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gs means to divid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groups or types so that thing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characteristics are in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D1E3-A7A9-4BCF-AEAE-0D036B994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F197-A998-45DE-AD9E-F881A0627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fore Reading - Previe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rcoal"/>
              </a:rPr>
              <a:t>Warm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arcoal"/>
              </a:rPr>
              <a:t>Before you read a chapter or a section of a chapter in your science, social studies, or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arcoal"/>
              </a:rPr>
              <a:t>book, Warm-up.   Get an idea of the chapt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Charcoal"/>
              </a:rPr>
              <a:t>s content by preview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arcoal"/>
              </a:rPr>
              <a:t>these pa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Hea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Subhea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Questions          </a:t>
            </a:r>
            <a:r>
              <a:rPr b="0" lang="en-US" sz="1000" spc="-1" strike="noStrike">
                <a:solidFill>
                  <a:srgbClr val="000000"/>
                </a:solidFill>
                <a:latin typeface="Charcoal"/>
              </a:rPr>
              <a:t>Curriculum Associates, </a:t>
            </a:r>
            <a:r>
              <a:rPr b="0" i="1" lang="en-US" sz="1000" spc="-1" strike="noStrike">
                <a:solidFill>
                  <a:srgbClr val="000000"/>
                </a:solidFill>
                <a:latin typeface="Charcoal"/>
              </a:rPr>
              <a:t>Skills for School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A221-073E-446B-83CE-4AD33D1DA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Questioning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h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a question or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s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1:32:53Z</dcterms:created>
  <dc:creator>Archer Anita</dc:creator>
  <dc:description/>
  <dc:language>en-US</dc:language>
  <cp:lastModifiedBy>Becky Brandl</cp:lastModifiedBy>
  <dcterms:modified xsi:type="dcterms:W3CDTF">2012-07-20T19:41:58Z</dcterms:modified>
  <cp:revision>14</cp:revision>
  <dc:subject/>
  <dc:title>ROCKS</dc:title>
</cp:coreProperties>
</file>